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685-ECC3-497E-99A0-C08E3411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B44-34DE-4F2C-8AB4-67CF1B5B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241-21AE-4812-A041-85ED6BDC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B6B-5B00-44C9-A03A-1F075F54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E5B-CB71-4E8C-B671-4A29F25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C9A-9588-4DF9-B0AE-6AB742B3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413-65BE-4F49-A7C0-12B175E5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041-EF9F-4F4A-836F-43FD296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3AF-7CB0-4BAC-A398-A95C796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6FC-FA80-48B4-89F5-65871A3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33A-2D32-4F44-9815-45D16EBF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AC5-8193-4768-BEAD-F1D8310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4DF-282D-47A7-9E75-18320759F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:  Scatterplots, Associations, and Corre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.P. 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makes no difference between explanatory and response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requires both variables to be quantit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s standardized values of the observation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not change when we change the units of measurement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positive association between the variables and a negativ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negative assoc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relation is always a number between    -1 and 1.  The strength of the linear relationship increases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ves away from 0 towards either -1 or 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measures the strength of only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mean and standard deviation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not resistant:  it is strongly affected by a few outl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has no units.  It should not be expressed as a percen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F:\Art - JPEG (high-res)\CH06\figure-06-10.jpg"/>
          <p:cNvPicPr/>
          <p:nvPr/>
        </p:nvPicPr>
        <p:blipFill>
          <a:blip r:embed="rId1"/>
          <a:stretch/>
        </p:blipFill>
        <p:spPr>
          <a:xfrm>
            <a:off x="1447920" y="0"/>
            <a:ext cx="56386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relation is not a complete description of two variable data—even if it is a linear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give the means and standard deviations of bo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say “correlation” when you mean “association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correlate categorical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he association is lin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ware of outl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confuse correlation with cau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out for lurking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vs. Cau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tterplots and correlati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ve cau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thing that can show causation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ndomized controlled experi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3276720" cy="267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tterplots are the best way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ing the relationship betwee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wo quantitativ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971800" y="4183200"/>
            <a:ext cx="33526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bing 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, Negative, n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, curved, cluster, et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reng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is point:  strong, moderate, w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nusual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ers, clusters with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bing 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572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bing 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371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planatory or Predic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explain the observed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d 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pons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an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d 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LOG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twee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wo quant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2120" y="4114800"/>
                <a:ext cx="5578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:  Graph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igin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6724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ndardized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2971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Con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ntitative Variables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ight Enough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lier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 correlation with and without out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1:06:37Z</dcterms:created>
  <dc:creator>fmasinmoyer</dc:creator>
  <dc:description/>
  <dc:language>en-US</dc:language>
  <cp:lastModifiedBy> </cp:lastModifiedBy>
  <dcterms:modified xsi:type="dcterms:W3CDTF">2010-02-19T06:35:52Z</dcterms:modified>
  <cp:revision>37</cp:revision>
  <dc:subject/>
  <dc:title>Chapter 7:  Scatterplots, Associations, and Correlations</dc:title>
</cp:coreProperties>
</file>